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974-81BB-4734-BB7C-3FA7BFFC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FB5-2B41-452B-AF23-9262C1CF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9B1-9105-41E5-94D1-B56049EF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B66-B9D3-4C26-9C66-FFB82745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7F41-ACC0-4EC2-A490-4D4E3CD4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75A3-DF90-4A7E-93F4-8DFAFC48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076B-D75D-43A1-9CBE-EDAE5F98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0058-8053-44BB-B665-DD656E5A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A0A7-5A45-4483-9493-A742EEF0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5043-EB2F-4F0E-9DB2-472F88D0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476A-7FCF-4E3D-8C40-22A20E9F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0AE-E46F-4B6E-841B-AEF3FA50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935C-D85C-4B11-A1AC-DCC9A013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6F59-C3C3-4F4A-AD0D-F8F6BD13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1EC7-98E8-498B-A41C-D6FAFC91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F4BB-76C2-47AC-ACC1-971BA9FA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28DD-586C-4E5E-95F2-0CFDC343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B46-00CD-4F33-82DA-9A5D06CA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5DC-F437-4D2F-816C-876312ED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D17-6334-4791-BD1D-0C2D8CAB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537-CC6E-45B9-8B19-4C93718E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F10-87E8-40AC-A637-774C3AA2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A3C-F83D-4023-87BA-DA81B77A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B64-9E51-490A-BF9F-E65F60B1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53F9-C8BC-4090-892C-090743FD5C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2A3D-D8D5-4BE6-99A4-83EE0C3974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 Movie 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rrate Time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narration has been completed select Stop 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60555" b="0"/>
          <a:stretch/>
        </p:blipFill>
        <p:spPr>
          <a:xfrm>
            <a:off x="4038480" y="2819520"/>
            <a:ext cx="3048120" cy="222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36576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41148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3352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nar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nar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3341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file with a recognizable name. The file will automatically be imported into the time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cking up a completed digital mov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ing up work is a part of the movie making process. When the project is completed there are two options for backing up a movi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ither File&gt;Save movie or the Task P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Burn (create) a CD, or multiple CD’s of the Windows Movie Maker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Export the movie back to either video tape or a video camera. Future editing will require the user to import the completed movie and splice it to accommodate necessary ed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76920" y="1758960"/>
            <a:ext cx="39621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ishing the movie – Choosing a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format for saving a movie. Will the movie be saved to CD, sent in an email, put on the Web, or exported to a Digital Video cam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99600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porting the mov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 to em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create a movie clip with a small file size. There is a trade off between file size and picture quality. The smaller the file size, the lower the picture quality. The larger the file size, the higher the picture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cking up a completed digital mov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ish Movie&gt; Send to DV Cam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Follow through the Wiz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that you should put a different tape in the video camera or move the tape to a blank area so you do not inadvertently tape over the video you have recor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ving the Windows Movie Maker fi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le name cannot include the following characters: \ / : * ? " &lt; &gt; | , and must be less than 64 characters in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iewing the mov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ing on how the movie was saved (CD, Computer, Video camera) play the movie and watch the result of your hard wo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Windows Movie Make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Movie Maker allows a user 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ap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mport) audio, create a narration, add video effects, and distribute our movie. This movie can be played on any computer, displayed on the web, saved to CD, or transferred to a video came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r can easily create movie that includes a soundtrack, audio commentary, transitions, and special effe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iting the movie – Video Eff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effects allow the user to add filters to media, endowing it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xample, new images can be changed to black and white images or made to look like old fil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95480" y="4114800"/>
            <a:ext cx="3124440" cy="2162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4952880" y="5105520"/>
            <a:ext cx="1447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49528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he video effect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video effect and left cl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 the video effect over an image in the timeline. This image will then be altered by the eff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iting the movie – Video Eff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5110200" cy="3119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3276720" y="4038480"/>
            <a:ext cx="83808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e grey star in the box has turned blue. This indicates a video effect is 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iting the movie – Video Eff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5638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video effect is a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124080" cy="291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1981080" y="4876920"/>
            <a:ext cx="121932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ideo Eff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move a video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ght click on the blue sta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lete Eff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29131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cluding Audio in the mov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 can be added to a Movie Maker movie in the form of background music or voice-over nar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 can be imported from a music CD, imported along with the video track, or recorded while watching the video play back as a voice-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ip – An inexpensive microphone from an electronics store (Staples, BestBuy, Circuit City, etc.) will significantly increase the sound quality of when recording audio from either the video camera or the compu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udio leve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levels can be set to increase or decrease the volume of a sound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47242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udio – Inserting a Nar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&gt;Narrate time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tart nar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over the clips as they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6434280" cy="567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209680" y="434304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rate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0200" y="4419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Audio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181480" y="44197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6483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from storyboard to timeline vi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6:55:33Z</dcterms:created>
  <dc:creator>OIT</dc:creator>
  <dc:description/>
  <dc:language>en-US</dc:language>
  <cp:lastModifiedBy>OIT</cp:lastModifiedBy>
  <dcterms:modified xsi:type="dcterms:W3CDTF">2007-03-11T17:31:27Z</dcterms:modified>
  <cp:revision>38</cp:revision>
  <dc:subject/>
  <dc:title>Windows Movie Maker</dc:title>
</cp:coreProperties>
</file>